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2A1D-E3D9-425B-BF79-3DB667E8B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43B3-7149-449E-BCFC-52F3B1F9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D2E7-C6ED-42CD-95B9-0D48F5ED2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3E62-7100-4395-AFB4-BA0DDD2EE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91FC-AB53-448F-B9AB-C68CD0AF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D9B9-8973-4C90-AC76-C52A9CB2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C27D-F83F-43E7-9365-870D83D3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561F-E811-4E19-86F6-B1E9B391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A25D-BBC1-4196-89C4-61A12EFC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D232-3B56-4003-A669-DBF43612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D1F1-3E55-4FED-9136-0CFE2DE0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C9DC-5751-4876-87D4-FAB1EAFD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5029-8E08-4F04-B41D-FD0F02933E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оектирование программы по обществознанию в 8 классе с включением заданий по финансовой грамотности в формате 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PIS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372440" y="4309920"/>
            <a:ext cx="42796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улова Елена Андрее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ОУ «Ергачинская СОШ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унгурский М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Объект 3" descr=""/>
          <p:cNvPicPr/>
          <p:nvPr/>
        </p:nvPicPr>
        <p:blipFill>
          <a:blip r:embed="rId1"/>
          <a:srcRect l="3521" t="9906" r="9140" b="4006"/>
          <a:stretch/>
        </p:blipFill>
        <p:spPr>
          <a:xfrm>
            <a:off x="3962520" y="1754280"/>
            <a:ext cx="7940520" cy="423540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716040" y="2073240"/>
            <a:ext cx="2728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есплат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ыстр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добн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rcRect l="10002" t="12119" r="6250" b="2881"/>
          <a:stretch/>
        </p:blipFill>
        <p:spPr>
          <a:xfrm>
            <a:off x="1486080" y="1504800"/>
            <a:ext cx="921996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684360" y="1690560"/>
            <a:ext cx="104868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76560" y="365040"/>
            <a:ext cx="71722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я по финансовой грамотности (</a:t>
            </a: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PISA)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455760" y="733320"/>
            <a:ext cx="4213080" cy="24814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"/>
          <p:cNvPicPr/>
          <p:nvPr/>
        </p:nvPicPr>
        <p:blipFill>
          <a:blip r:embed="rId2"/>
          <a:stretch/>
        </p:blipFill>
        <p:spPr>
          <a:xfrm>
            <a:off x="5486400" y="1690560"/>
            <a:ext cx="5197320" cy="20066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"/>
          <p:cNvPicPr/>
          <p:nvPr/>
        </p:nvPicPr>
        <p:blipFill>
          <a:blip r:embed="rId3"/>
          <a:stretch/>
        </p:blipFill>
        <p:spPr>
          <a:xfrm>
            <a:off x="808200" y="3475080"/>
            <a:ext cx="100314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98360" y="182520"/>
          <a:ext cx="11781000" cy="6492960"/>
        </p:xfrm>
        <a:graphic>
          <a:graphicData uri="http://schemas.openxmlformats.org/drawingml/2006/table">
            <a:tbl>
              <a:tblPr/>
              <a:tblGrid>
                <a:gridCol w="5891400"/>
                <a:gridCol w="5889600"/>
              </a:tblGrid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ма в рабочей программ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анк заданий «Финансовая грамотност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166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номика — основа жизнедеятельности чело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. «Планшет или ноутбу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  <a:tr h="965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ыночные отношения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. Как защититься от интернет-мошенников в интерне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нансовые отношения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. «Нужен ли кредит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. «Карта Юност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машнее хозяй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. «Дачные проблемы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номические цели и  функции государ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. «Налог на новую квартиру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1560" y="1224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Дачные проблемы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441360" y="1193760"/>
            <a:ext cx="1111104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Нужен ли кредит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655560" y="1825560"/>
            <a:ext cx="1069812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Налог на новую квартиру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1127160" y="1444680"/>
            <a:ext cx="1000440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4T10:15:26Z</dcterms:created>
  <dc:creator>User</dc:creator>
  <dc:description/>
  <dc:language>en-US</dc:language>
  <cp:lastModifiedBy>User</cp:lastModifiedBy>
  <dcterms:modified xsi:type="dcterms:W3CDTF">2022-11-28T04:43:17Z</dcterms:modified>
  <cp:revision>10</cp:revision>
  <dc:subject/>
  <dc:title>Презентация PowerPoint</dc:title>
</cp:coreProperties>
</file>